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0275-038D-4BAE-9EA9-1B6A34591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9391-9673-4F66-8388-FCD5D516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2D93-2E18-45D7-8EA6-07872F57B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50E1-194B-459E-8029-5FD99A7A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E8C-1C23-458C-85FC-D027128D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2CAE-FFAE-43D8-AF94-EB12B5BC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EB0-BECA-4DD1-BCBF-ADF9AA265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C2E5-BE4C-441D-9E3C-D31573E1C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4B8-DE11-40C9-87FA-9935CCE3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BFF-F5A0-47B0-9D33-90160BF6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A4F-166B-4FFF-A048-05C81CC02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6A8-4D9C-491B-95CC-3ADA78D0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051-B1DB-48E5-84AB-B2C5BD04B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B08C-6B58-4310-AEBE-8F180FD2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99A0-FB0F-43FC-B600-8B5B9D03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6C19-D46C-45F0-9D83-2DF52B9A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F33-2452-4702-AF67-6E9240F03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2A0-5876-4BBE-B6BD-F13F05E8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796-F8F1-4BDB-83BD-D1F2E3374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8A8-1428-4F5B-ABEA-129FF57D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56B-C7E1-4D25-9B8C-768A4253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625-8536-4DCC-90C4-83B000D1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892-B014-444A-8D0B-37FCCFCC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BAA-1F05-437A-9C94-25EF3071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D72-D052-429B-96ED-F0EA8E1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F09-C1C2-486A-9FC5-491F12D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CF8-CD2B-427B-82CE-4A131064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B8E-BFC3-4DED-AFFA-C932629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794-CDEF-46C4-8799-99B2340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3CF-30DE-436F-BB03-B6D20D3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30F-D948-4E1D-B8B9-FDEFAC86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862-85AF-4171-A315-89F53DA55F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1500120"/>
            <a:ext cx="78152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инистерство труда и социальной защиты Российской Федерации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арственное автоном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ститут переподготовки и повышения квалификации руководящих кадров и специалистов системы социальной защиты населения города Москв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ДАТОЧНЫЙ МАТЕРИАЛ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о-методических семинаров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 распространению идей, принципов и средств формирования доступной среды для инвалидов и других маломобильных групп населения для специалистов органов управления и учреждений системы социальной защиты населения и иных ведомств, участвующих в формировании доступной среды жизнедеятельности для инвалидов и других маломобильных групп в рамках реализации государственной программы  Российской Федерации «Доступная среда» на 2011-2015 годы в 2013 год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резентация:</a:t>
            </a:r>
            <a:br>
              <a:rPr sz="1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е нормативы доступности среды для инвалидов»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сква – 2013</a:t>
            </a:r>
            <a:br>
              <a:rPr sz="1400"/>
            </a:b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тья 12. Требования доступности зданий и сооружений для инвалидов и других групп населения с ограниченными возможностями пере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Жилые здания, объекты инженерной, транспортной и социальной инфраструктур должны быть спроектированы и построены таким образом, чтобы обеспечивалась их доступность для инвалидов и других групп населения с ограниченными возможностями передви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Объекты транспортной инфраструктуры должны быть оборудованы специальными приспособлениями, позволяющими инвалидам и другим группам населения с ограниченными возможностями передвижения беспрепятственно пользоваться услугами, предоставляемыми на объектах транспортной инфраструк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тья 8. Требования пожарной безопас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эвакуация людей (с учетом особенностей инвалидов и других групп населения с ограниченными возможностями передвижения) в безопасную зону до нанесения вреда их жизни и здоровью вследствие воздействия опасных факторов пож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тья 6. Документы в области стандартизации, в результате применения которых обеспечивается соблюдение требований настоящего Федерального зак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равительство Российской Федерации утверждает перечень национальных стандартов и сводов правил (частей таких стандартов и сводов правил), в результате применения которых на обязательной основе обеспечивается соблюдение требований настоящего Федерального зак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Т Р 51631-2008 «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фты пассажирские. Технические требования доступности, включая доступность для инвалидов и других маломобильных групп насел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Т Р 51630-2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«Платформы подъемные с вертикальным и наклонным перемещением для инвалидов. Технические требования доступ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Т Р 52131-200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«Средства отображения информации знаковые для инвалид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Т Р 51671-2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«Средства связи и информации технические общего пользования, доступные для инвалидов. Классификация. Требования доступности и безопас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Т  Р 52875-200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«Указатели тактильные наземные для инвалидов по зрению. Технические требо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Т -51261-9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«Устройства опорные стационарные реабилитационные. Типы и технические требо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ounded Rectangle 6"/>
          <p:cNvSpPr/>
          <p:nvPr/>
        </p:nvSpPr>
        <p:spPr>
          <a:xfrm>
            <a:off x="1187280" y="476280"/>
            <a:ext cx="6985080" cy="1219320"/>
          </a:xfrm>
          <a:prstGeom prst="roundRect">
            <a:avLst>
              <a:gd name="adj" fmla="val 16667"/>
            </a:avLst>
          </a:prstGeom>
          <a:solidFill>
            <a:srgbClr val="eaccc3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Строительные пр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35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1835280" y="1989000"/>
            <a:ext cx="60498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СНиП  35-01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оступность зданий и сооружений для МГ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3132000" y="3933720"/>
            <a:ext cx="2578320" cy="215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 35-103-2001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«Общественные здания и сооружения, доступные маломобильным посетителя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380880" y="3886200"/>
            <a:ext cx="2590920" cy="213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П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5-101-2001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"Проектирование зданий и сооружений с учетом доступности для маломобильных групп населе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5867280" y="4076640"/>
            <a:ext cx="25797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35-102-200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«Общественные здания и сооружения, доступные маломобильным посетителя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иП 35-01-200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"Доступность зданий и сооружений для маломобильных групп населения"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 35-101-2001 «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ирование зданий и сооружений с учетом доступности для маломобильных групп насе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 35-102-200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"Жилая среда с планировочными элементами, доступными инвалидам"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 35-103-200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"Общественные здания и сооружения, доступные маломобильным посетителям"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 35-104-200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"Здания и помещения с местами труда для инвалидов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ование заданий на проектирование с органами соцзащи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ководящий документ системы РДС 35-201-99 "Порядок реализации требований доступности для инвалидов к объектам социальной инфраструктуры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ение и выдача исходно-разрешительной документации, в том числе заданий на проектирование застройки, АПЗ и заданий на проектирование объектов социальной инфраструктуры, не допускаются без согласования с местным орган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й защиты населения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П 35-01-2001  1 Общие по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е на проектирование утверждается в установленном порядке по согласованию с территориальным органом социальной защиты населения и с учетом мнения общественных объединений инвалид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4 Проектные решения объектов, доступных для МГН, должны обеспечива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осягаемость мест целевого посещения и беспрепятственность перемещения внутри зданий и сооруже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- безопасность путей движения (в том числе эвакуационных), а также мест проживания, обслуживания и приложения труд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- своевременное получение МГН полноценной и качественной информации, позволяющей ориентироваться в пространстве, использовать оборудование (в том числе для самообслуживания), получать услуги, участвовать в трудовом и учебном процессе и т.д.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- удобство и комфорт среды жизнедеятельности.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356000" y="1125360"/>
            <a:ext cx="374508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ходы и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95280" y="2852640"/>
            <a:ext cx="2286000" cy="936720"/>
          </a:xfrm>
          <a:prstGeom prst="rect">
            <a:avLst/>
          </a:prstGeom>
          <a:solidFill>
            <a:srgbClr val="ff7c80"/>
          </a:solidFill>
          <a:ln w="93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т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анд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132000" y="2637000"/>
            <a:ext cx="2928960" cy="1135080"/>
          </a:xfrm>
          <a:prstGeom prst="rect">
            <a:avLst/>
          </a:prstGeom>
          <a:solidFill>
            <a:srgbClr val="ff7c80"/>
          </a:solidFill>
          <a:ln w="936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ф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дъем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372360" y="2637000"/>
            <a:ext cx="2214360" cy="1349280"/>
          </a:xfrm>
          <a:prstGeom prst="rect">
            <a:avLst/>
          </a:prstGeom>
          <a:solidFill>
            <a:srgbClr val="c74f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9640" y="1197000"/>
            <a:ext cx="3168720" cy="1152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6836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уктура СНиП 35-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211640" y="4149720"/>
            <a:ext cx="439272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итарно-гигие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539640" y="5373720"/>
            <a:ext cx="2416320" cy="115092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ые  з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39640" y="4076640"/>
            <a:ext cx="3240360" cy="936720"/>
          </a:xfrm>
          <a:prstGeom prst="rect">
            <a:avLst/>
          </a:prstGeom>
          <a:solidFill>
            <a:srgbClr val="aa8a14"/>
          </a:solidFill>
          <a:ln w="9360">
            <a:solidFill>
              <a:srgbClr val="c74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3203640" y="5373720"/>
            <a:ext cx="2415960" cy="11523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227640" y="5373720"/>
            <a:ext cx="2416320" cy="11523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d15"/>
            </a:gs>
            <a:gs pos="100000">
              <a:srgbClr val="d59988">
                <a:alpha val="85098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азовые нормативы доступности среды для инвали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е законы, содержащие нормы доступности городской инфра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«О социальной защите инвалидов в Российской Федераци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остроительный кодекс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еральный закон от 27 декабря 2002 года № 184-ФЗ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техническом рег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т. 2, ст. 3, п.п. 1 и 2 ст. 4, п. 1 ст. 6, п. 4 ст. 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еральный закон от 30 декабря 2009 года № 384-ФЗ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хнический регламент о безопасности зданий и сооруж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. ст. 1, 3, 10, 11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2, 15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0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екс об административных правонарушениях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овские  законы и постано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«Об обеспечении беспрепятственного доступа инвалидов к объектам социальной, транспортной и инженерной инфраструктур города Москв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екс об административных правонарушениях города Мос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тановления Правительства Моск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СОЦИАЛЬНОЙ ЗАЩИТЕ ИНВАЛИДОВ В РОССИЙСКОЙ ФЕДЕРА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атья 15. Обеспечение беспрепятственного доступа инвалидов к объектам социальной инфраструк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, органы исполнительной власти субъектов Российской Федерации, органы местного самоуправления и организации независимо от организационно-правовых форм создают условия инвалидам (включая инвалидов, использующих кресла-коляски и собак-проводников) для беспрепятственного доступа к объектам социальной инфраструктуры (жилым, общественным и производственным зданиям, строениям и сооружениям, спортивным сооружениям, местам отдыха, культурно-зрелищным и другим учреждениям), а также для беспрепятственного пользования железнодорожным, воздушным, водным, междугородным автомобильным транспортом и всеми видами городского и пригородного пассажирского транспорта, средствами связи и информации (включая средства, обеспечивающие дублирование звуковыми сигналами световых сигналов светофоров и устройств, регулирующих движение пешеходов через транспортные коммуникаци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достроительный коде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тья 2. Основные принципы законодательства о градостроительной де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одательство о градостроительной деятельности и изданные в соответствии с ним нормативные правовые акты основываются на следующих принципа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обеспечение инвалидам условий для беспрепятственного доступа к объектам социального и иного назнач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ДЕКС РОССИЙСКОЙ ФЕДЕРАЦИИ ОБ АДМИНИСТРАТИВНЫХ ПРАВОНАРУШЕНИЯХ РОССИЙСКОЙ ФЕДЕРАЦИ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тья 9.13. Уклонение от исполнения требований доступности для инвалидов объектов инженерной, транспортной и социальной инфраструк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лонение от исполнения требований к обеспечению условий для доступа инвалидов к объектам инженерной, транспортной и социальной инфраструктур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чет наложение административного штрафа на должностных лиц в размере о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адцати до тридцати минимальных размеров оплаты тр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на юридических лиц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двухсот до трехсот минимальных размеров оплаты тр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ДЕРАЛЬНЫЙ ЗАКОН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ЧЕСКИЙ РЕГЛАМЕНТ О БЕЗОПАСНОСТИ ЗДАНИЙ И СООРУЖ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30 декабря 2009 года N 384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 Государственной Думой                   23 декабря 2009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н Советом Федерации                        25 декабря 2009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бование доступ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тоящий Федеральный закон устанавливает минимально необходимые требования к зданиям и сооружениям (в том числе к входящим в их состав сетям инженерно-технического обеспечения и системам инженерно-технического обеспечения), а также к связанным со зданиями и с сооружениями процессам проектирования (включая изыскания), строительства, монтажа, наладки, эксплуатации и утилизации (сноса), в том числе требова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) механической безопас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) пожарной безопас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) безопасности при опасных природных процессах и явлениях и (или) техногенных воздейств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) безопасных для здоровья человека условий проживания и пребывания в зданиях и сооружен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) безопасности для пользователей зданиями и сооружения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 доступности зданий и сооружений для инвалидов и других групп населения с ограниченными возможностями пере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) энергетической эффективности зданий и сооруж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) безопасного уровня воздействия зданий и сооружений на окружающую сре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8:56:34Z</dcterms:created>
  <dc:creator>Вера</dc:creator>
  <dc:description/>
  <dc:language>en-US</dc:language>
  <cp:lastModifiedBy>33</cp:lastModifiedBy>
  <dcterms:modified xsi:type="dcterms:W3CDTF">2013-09-16T15:23:29Z</dcterms:modified>
  <cp:revision>146</cp:revision>
  <dc:subject/>
  <dc:title>Slide 1</dc:title>
</cp:coreProperties>
</file>